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13.png" ContentType="image/png"/>
  <Override PartName="/ppt/media/image8.png" ContentType="image/png"/>
  <Override PartName="/ppt/media/image4.gif" ContentType="image/gif"/>
  <Override PartName="/ppt/media/image12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0.png" ContentType="image/png"/>
  <Override PartName="/ppt/media/image18.png" ContentType="image/png"/>
  <Override PartName="/ppt/media/image7.jpeg" ContentType="image/jpeg"/>
  <Override PartName="/ppt/media/image11.png" ContentType="image/png"/>
  <Override PartName="/ppt/media/image3.gif" ContentType="image/gi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A70-4F9E-406B-9EAC-E946ECC3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076-BB16-4D61-B77C-DBDCE4DA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829-E9CB-4FB7-A87C-0DA5CEDA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4B87-CD3B-4623-9470-F3147EC4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802D-7794-418F-A92B-23D0FFE1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2E14-A4D3-4BA8-8D8E-5CE124C5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FBD8-DDBB-4EC5-B641-5F183A77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B60A-7A69-432E-BC0D-7275DFE8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60EE-0F75-4AD4-A849-8C8734AB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816A-73E9-4BCA-B594-6FEA0FF0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D879-C136-4D76-A939-4C423A06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17C-6295-4170-9C8D-6FCDBF84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8301-B0E5-44CF-946B-45FBE0EA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7A8A-6F08-459F-95F7-692AB0BE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38A6-A1AD-4E74-8A73-69EC0F92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A45D-AD83-46BB-8A56-15A3925F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16A5-87F9-40D5-9F3F-61B80308D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982-8197-4BB8-BC6D-9ADCE198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3B2-51A6-4A1E-AE1A-91A5D3F7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862F-E37A-4FFC-8DF6-99AA6EFC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3B6-3B18-45C9-9058-F7DBB464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323-670D-4A7E-A5EE-9957C288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5027-42F5-4EBE-AD76-79D4748A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117-5764-45B3-8121-43686C2B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C2A4-C520-46D6-902F-4034CFA1AB7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0E96-254F-4D12-B5DC-EEF1B53067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ancasterschools.org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95480" y="2689200"/>
            <a:ext cx="552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36800" y="2360520"/>
            <a:ext cx="705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0dcb0"/>
                </a:solidFill>
                <a:latin typeface="AbcBulletin"/>
              </a:rPr>
              <a:t>Welcome to 3</a:t>
            </a:r>
            <a:r>
              <a:rPr b="1" lang="en-US" sz="6600" spc="-1" strike="noStrike" baseline="30000">
                <a:solidFill>
                  <a:srgbClr val="60dcb0"/>
                </a:solidFill>
                <a:latin typeface="AbcBulletin"/>
              </a:rPr>
              <a:t>rd</a:t>
            </a:r>
            <a:r>
              <a:rPr b="1" lang="en-US" sz="6600" spc="-1" strike="noStrike">
                <a:solidFill>
                  <a:srgbClr val="60dcb0"/>
                </a:solidFill>
                <a:latin typeface="AbcBulletin"/>
              </a:rPr>
              <a:t> Grad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989600" y="5467320"/>
            <a:ext cx="3116160" cy="11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Homework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603520" y="3475080"/>
            <a:ext cx="4083120" cy="1228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sponsibil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72880" y="361800"/>
            <a:ext cx="389268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dependen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/>
          </p:cNvPr>
          <p:cNvSpPr/>
          <p:nvPr/>
        </p:nvSpPr>
        <p:spPr>
          <a:xfrm>
            <a:off x="895320" y="4089240"/>
            <a:ext cx="7467480" cy="129564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ttp://www.lancasterschools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957400" y="371520"/>
          <a:ext cx="3216240" cy="315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57400" y="371520"/>
                    <a:ext cx="321624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60520" y="2409840"/>
            <a:ext cx="6291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bcBulletin"/>
              </a:rPr>
              <a:t>Learning to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AbcBulletin"/>
              </a:rPr>
              <a:t>Reading to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bcBulletin"/>
              </a:rPr>
              <a:t>Loving to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9600" y="358920"/>
            <a:ext cx="883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Earwig Factory"/>
              </a:rPr>
              <a:t>Reading Worksho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69880" y="963720"/>
            <a:ext cx="6994800" cy="67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mprehension Think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ema (making conne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ng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er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t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ual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hes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mprehension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 idea, details, cause &amp; effec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AG00030_" descr=""/>
          <p:cNvPicPr/>
          <p:nvPr/>
        </p:nvPicPr>
        <p:blipFill>
          <a:blip r:embed="rId8"/>
          <a:stretch/>
        </p:blipFill>
        <p:spPr>
          <a:xfrm>
            <a:off x="5556240" y="2620800"/>
            <a:ext cx="2246400" cy="21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06800" y="64620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ff"/>
                </a:solidFill>
                <a:uFillTx/>
                <a:latin typeface="Comic Sans MS"/>
              </a:rPr>
              <a:t>C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omm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1" lang="en-US" sz="3600" spc="-1" strike="noStrike" u="sng">
                <a:solidFill>
                  <a:srgbClr val="0066ff"/>
                </a:solidFill>
                <a:uFillTx/>
                <a:latin typeface="Comic Sans MS"/>
              </a:rPr>
              <a:t>F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orma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	</a:t>
            </a:r>
            <a:r>
              <a:rPr b="1" lang="en-US" sz="3600" spc="-1" strike="noStrike" u="sng">
                <a:solidFill>
                  <a:srgbClr val="0066ff"/>
                </a:solidFill>
                <a:uFillTx/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ssess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87560" y="2359080"/>
            <a:ext cx="77724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AbcPrint"/>
              </a:rPr>
              <a:t>- Informs instr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AbcPrint"/>
              </a:rPr>
              <a:t>- Helps plan instruction to meet the needs of stud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b200"/>
              </a:buClr>
              <a:buFont typeface="Abc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AbcPrint"/>
              </a:rPr>
              <a:t>Targets individual student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b200"/>
              </a:buClr>
              <a:buFont typeface="Abc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AbcPrint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AbcPrint"/>
              </a:rPr>
              <a:t>NYS ELA (multiple choice, constructed respon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b200"/>
              </a:buClr>
              <a:buFont typeface="Abc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96920" y="162000"/>
            <a:ext cx="1965240" cy="14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82760" y="519120"/>
            <a:ext cx="72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00b200"/>
                </a:solidFill>
                <a:uFillTx/>
                <a:latin typeface="AbcBulletin"/>
              </a:rPr>
              <a:t>WRIT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09760" y="2386080"/>
            <a:ext cx="7093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Main Units of Stu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*Personal Nar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*Compare &amp; Cont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*F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*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*Po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076136" descr=""/>
          <p:cNvPicPr/>
          <p:nvPr/>
        </p:nvPicPr>
        <p:blipFill>
          <a:blip r:embed="rId1"/>
          <a:stretch/>
        </p:blipFill>
        <p:spPr>
          <a:xfrm>
            <a:off x="5897520" y="4527720"/>
            <a:ext cx="201924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00720" y="3687840"/>
            <a:ext cx="4057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ocabula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18960" y="192240"/>
            <a:ext cx="2721240" cy="16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Grammar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432160" y="5103720"/>
            <a:ext cx="26366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pell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674720" y="2363760"/>
            <a:ext cx="395460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ndwrit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3300"/>
                </a:solidFill>
                <a:latin typeface="Tempus Sans ITC"/>
              </a:rPr>
              <a:t>Math</a:t>
            </a:r>
            <a:r>
              <a:rPr b="0" lang="en-US" sz="7200" spc="-1" strike="noStrike">
                <a:solidFill>
                  <a:srgbClr val="000000"/>
                </a:solidFill>
                <a:latin typeface="Tempus Sans ITC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585800"/>
            <a:ext cx="9144000" cy="52722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Comic Sans MS"/>
              </a:rPr>
              <a:t>Multiple strategies to solv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Comic Sans MS"/>
              </a:rPr>
              <a:t>Math Facts ~ Pract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Comic Sans MS"/>
              </a:rPr>
              <a:t>Home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316080"/>
            <a:ext cx="1752840" cy="1171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105600" y="4021200"/>
            <a:ext cx="266688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79600"/>
          </a:xfrm>
          <a:prstGeom prst="rect">
            <a:avLst/>
          </a:prstGeom>
          <a:gradFill rotWithShape="0">
            <a:gsLst>
              <a:gs pos="0">
                <a:srgbClr val="756e2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Monotype Corsiva"/>
              </a:rPr>
              <a:t>Science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474920"/>
            <a:ext cx="9144000" cy="5383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Butterf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Buoy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Poll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1230480" cy="1400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29400" y="198108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276720" y="1828800"/>
            <a:ext cx="1981080" cy="1316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5562720" y="3505320"/>
            <a:ext cx="1304640" cy="1295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3200400" y="3886200"/>
            <a:ext cx="1733400" cy="2514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696080" y="4114800"/>
            <a:ext cx="1079640" cy="1828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00320" y="534204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29200" y="5370480"/>
            <a:ext cx="27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Hands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914400" y="0"/>
            <a:ext cx="123048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565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lephant"/>
              </a:rPr>
              <a:t>Social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600200"/>
            <a:ext cx="9144000" cy="5257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Book Antiqua"/>
              </a:rPr>
              <a:t>Countries Around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Book Antiqua"/>
              </a:rPr>
              <a:t>*Geograp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Book Antiqua"/>
              </a:rPr>
              <a:t>*Gover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Book Antiqua"/>
              </a:rPr>
              <a:t>*Ec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Book Antiqua"/>
              </a:rPr>
              <a:t>*Cul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7461360" y="0"/>
            <a:ext cx="1682640" cy="1682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155520" y="2925720"/>
            <a:ext cx="2259000" cy="1177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6843600" y="3387600"/>
            <a:ext cx="2141640" cy="1438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345960" y="558324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7391520" y="5610240"/>
            <a:ext cx="1752480" cy="124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15:38:00Z</dcterms:created>
  <dc:creator>L.C.S.D.</dc:creator>
  <dc:description/>
  <dc:language>en-US</dc:language>
  <cp:lastModifiedBy>Smith</cp:lastModifiedBy>
  <dcterms:modified xsi:type="dcterms:W3CDTF">2010-09-01T01:54:59Z</dcterms:modified>
  <cp:revision>7</cp:revision>
  <dc:subject/>
  <dc:title>2004 School Calend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850831033</vt:lpwstr>
  </property>
</Properties>
</file>